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164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28600" y="457200"/>
            <a:ext cx="6400800" cy="8077320"/>
            <a:chOff x="228600" y="457200"/>
            <a:chExt cx="6400800" cy="8077320"/>
          </a:xfrm>
        </p:grpSpPr>
        <p:grpSp>
          <p:nvGrpSpPr>
            <p:cNvPr id="40" name=""/>
            <p:cNvGrpSpPr/>
            <p:nvPr/>
          </p:nvGrpSpPr>
          <p:grpSpPr>
            <a:xfrm>
              <a:off x="228600" y="457200"/>
              <a:ext cx="6400800" cy="8077320"/>
              <a:chOff x="228600" y="457200"/>
              <a:chExt cx="6400800" cy="8077320"/>
            </a:xfrm>
          </p:grpSpPr>
          <p:sp>
            <p:nvSpPr>
              <p:cNvPr id="41" name=""/>
              <p:cNvSpPr/>
              <p:nvPr/>
            </p:nvSpPr>
            <p:spPr>
              <a:xfrm>
                <a:off x="228600" y="457200"/>
                <a:ext cx="6400800" cy="807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80880" y="5791320"/>
                <a:ext cx="6096240" cy="25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.S ARMY SOLDIER SUPPORT INSTITU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ACTICAL EXERCISE AND ANSWER BOOKL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ERSION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repare a Statement of Agent Officer’s Accou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(DD Form 108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3" name=""/>
            <p:cNvGraphicFramePr/>
            <p:nvPr/>
          </p:nvGraphicFramePr>
          <p:xfrm>
            <a:off x="2006640" y="2276640"/>
            <a:ext cx="2854440" cy="302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6640" y="2276640"/>
                      <a:ext cx="2854440" cy="30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1506600" y="890640"/>
            <a:ext cx="38401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2760" y="430200"/>
            <a:ext cx="1909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 INSTRU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9800" y="706320"/>
            <a:ext cx="71251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actical exercise (PE) measures your ability to Prepare a Statement o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ent Officer’s Account (DD Form 1081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booklet contains 20 questions.  You will write all your answers in this bookl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will have 30 minutes to complete this P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 are a cashier working in the Disbursing Branch of the 23rd Finance Battal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pare a DD Form 1081 for an advance that you received from the Disbursing Officer and verif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return.</a:t>
            </a:r>
            <a:r>
              <a:rPr b="0" lang="en-US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33600" y="8610480"/>
            <a:ext cx="194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33600" y="828036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1800" y="698400"/>
            <a:ext cx="5257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 questions 1-3 concerning your general knowledge of  the Statement of Officer’s Account (DD Form 1081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Who should make a thorough investigation of a selected cashier to ensure that he/s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unquestionable integrit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appoints a Cashi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copies of a letter of appointment are issu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1800" y="698400"/>
            <a:ext cx="5257800" cy="74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INSTRU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e Offic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. Cory, LTC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Stewart, GA 3131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hi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bursing Offic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M. Toney, CPT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bursing Officer Addres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rd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4-56-78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Stewart GA 3131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N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3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Dat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 January 20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   Exchange rate for Foreign Currency (FC) is FC 2.00 = US $1.0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the information provided in the special instructions above, prepare the DD Form 1081, located on page 3 of this booklet, for the advance and return you conducted with CPT Tenhut.  Answer questions 4-20, on pages 4 and 5, using the completed DD Form 1081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CPT Toney conducted the following transactions with you on 26 January 20**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 advanced you the following amou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 Dolla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5,5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ign Currency: (2.00 FC = US$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,000F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sury Check #38,67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the end of the day you returned the follow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Dollar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1,2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,560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asury Chec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77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’s Chec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,1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d Vouche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7,4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l" pos="27385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861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304920"/>
          <a:ext cx="6858000" cy="891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920"/>
                    <a:ext cx="6858000" cy="89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8686800"/>
            <a:ext cx="30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8610480"/>
            <a:ext cx="4572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1800" y="698400"/>
            <a:ext cx="5257800" cy="74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1800" y="698400"/>
            <a:ext cx="5257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0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2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6:53:03Z</dcterms:created>
  <dc:creator>Tamatha Perkins</dc:creator>
  <dc:description/>
  <dc:language>en-US</dc:language>
  <cp:lastModifiedBy>yvonne.godwin</cp:lastModifiedBy>
  <cp:lastPrinted>2001-04-19T13:44:58Z</cp:lastPrinted>
  <dcterms:modified xsi:type="dcterms:W3CDTF">2006-08-11T17:20:56Z</dcterms:modified>
  <cp:revision>77</cp:revision>
  <dc:subject/>
  <dc:title>No Slide Title</dc:title>
</cp:coreProperties>
</file>